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6.jpeg" ContentType="image/jpeg"/>
  <Override PartName="/ppt/media/image5.wmf" ContentType="image/x-wmf"/>
  <Override PartName="/ppt/media/image4.wmf" ContentType="image/x-wmf"/>
  <Override PartName="/ppt/media/image2.png" ContentType="image/pn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wmf" ContentType="image/x-wmf"/>
  <Override PartName="/ppt/media/image19.wmf" ContentType="image/x-wmf"/>
  <Override PartName="/ppt/media/image14.jpeg" ContentType="image/jpeg"/>
  <Override PartName="/ppt/media/image18.png" ContentType="image/png"/>
  <Override PartName="/ppt/media/image17.wmf" ContentType="image/x-wmf"/>
  <Override PartName="/ppt/media/image24.png" ContentType="image/png"/>
  <Override PartName="/ppt/media/image1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824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824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824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824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824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82480"/>
            <a:ext cx="264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824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8248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82480"/>
            <a:ext cx="8229600" cy="23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4720" y="427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 Black"/>
              </a:rPr>
              <a:t>Working the Pl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3" descr="AO_1a"/>
          <p:cNvPicPr/>
          <p:nvPr/>
        </p:nvPicPr>
        <p:blipFill>
          <a:blip r:embed="rId1"/>
          <a:stretch/>
        </p:blipFill>
        <p:spPr>
          <a:xfrm>
            <a:off x="2708280" y="789120"/>
            <a:ext cx="37260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Scisso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475080" y="2241720"/>
            <a:ext cx="2193840" cy="3687480"/>
          </a:xfrm>
          <a:prstGeom prst="rect">
            <a:avLst/>
          </a:prstGeom>
          <a:ln w="0">
            <a:noFill/>
          </a:ln>
        </p:spPr>
      </p:pic>
      <p:sp>
        <p:nvSpPr>
          <p:cNvPr id="73" name="Line 4"/>
          <p:cNvSpPr/>
          <p:nvPr/>
        </p:nvSpPr>
        <p:spPr>
          <a:xfrm>
            <a:off x="5060880" y="1996920"/>
            <a:ext cx="0" cy="4173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121560" y="1441440"/>
            <a:ext cx="32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utside Foot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Scisso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475080" y="2241720"/>
            <a:ext cx="2193840" cy="3687480"/>
          </a:xfrm>
          <a:prstGeom prst="rect">
            <a:avLst/>
          </a:prstGeom>
          <a:ln w="0">
            <a:noFill/>
          </a:ln>
        </p:spPr>
      </p:pic>
      <p:sp>
        <p:nvSpPr>
          <p:cNvPr id="77" name="Line 4"/>
          <p:cNvSpPr/>
          <p:nvPr/>
        </p:nvSpPr>
        <p:spPr>
          <a:xfrm>
            <a:off x="4721400" y="2013120"/>
            <a:ext cx="0" cy="4173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465720" y="144144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“SLOT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3230640" y="1943280"/>
            <a:ext cx="268128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Slo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Box stance 1"/>
          <p:cNvPicPr/>
          <p:nvPr/>
        </p:nvPicPr>
        <p:blipFill>
          <a:blip r:embed="rId1"/>
          <a:stretch/>
        </p:blipFill>
        <p:spPr>
          <a:xfrm>
            <a:off x="2320920" y="164304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Slo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Box stance 2"/>
          <p:cNvPicPr/>
          <p:nvPr/>
        </p:nvPicPr>
        <p:blipFill>
          <a:blip r:embed="rId1"/>
          <a:stretch/>
        </p:blipFill>
        <p:spPr>
          <a:xfrm>
            <a:off x="2287440" y="164304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Slo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slot - top view"/>
          <p:cNvPicPr/>
          <p:nvPr/>
        </p:nvPicPr>
        <p:blipFill>
          <a:blip r:embed="rId1"/>
          <a:stretch/>
        </p:blipFill>
        <p:spPr>
          <a:xfrm>
            <a:off x="2287440" y="1643040"/>
            <a:ext cx="457056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“SLOT”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Umpire - plate 5"/>
          <p:cNvPicPr/>
          <p:nvPr/>
        </p:nvPicPr>
        <p:blipFill>
          <a:blip r:embed="rId1"/>
          <a:stretch/>
        </p:blipFill>
        <p:spPr>
          <a:xfrm>
            <a:off x="888840" y="2692440"/>
            <a:ext cx="2187720" cy="29462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585800" y="1752480"/>
            <a:ext cx="12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233240" y="175248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Umpire - plate 6"/>
          <p:cNvPicPr/>
          <p:nvPr/>
        </p:nvPicPr>
        <p:blipFill>
          <a:blip r:embed="rId2"/>
          <a:stretch/>
        </p:blipFill>
        <p:spPr>
          <a:xfrm>
            <a:off x="3710160" y="2705040"/>
            <a:ext cx="2101680" cy="3024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6825600" y="170964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g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kneeling - BAD 2"/>
          <p:cNvPicPr/>
          <p:nvPr/>
        </p:nvPicPr>
        <p:blipFill>
          <a:blip r:embed="rId3"/>
          <a:stretch/>
        </p:blipFill>
        <p:spPr>
          <a:xfrm>
            <a:off x="6245280" y="2622600"/>
            <a:ext cx="203364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etting into posi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rub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op” from A to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c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l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Batter interference 2.wmv" descr=""/>
          <p:cNvPicPr/>
          <p:nvPr/>
        </p:nvPicPr>
        <p:blipFill>
          <a:blip r:embed="rId1"/>
          <a:stretch/>
        </p:blipFill>
        <p:spPr>
          <a:xfrm>
            <a:off x="68400" y="380880"/>
            <a:ext cx="899928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5124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2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0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Making the cal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inging 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eck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cher/Batter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d ball 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Plate Stan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basic 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i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third, but few us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Responsibiliti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l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wing/Check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l Ball/Foul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t b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 not avoiding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 ducks, but pitch hits the b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 is out of the b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 swings, but is hit by the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cher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tter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queeze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ssed 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opped third stri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Bible - working the plate 2.wmv" descr=""/>
          <p:cNvPicPr/>
          <p:nvPr/>
        </p:nvPicPr>
        <p:blipFill>
          <a:blip r:embed="rId1"/>
          <a:stretch/>
        </p:blipFill>
        <p:spPr>
          <a:xfrm>
            <a:off x="-31680" y="380880"/>
            <a:ext cx="9145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83962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5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Clearing the Catche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441520" y="1541520"/>
            <a:ext cx="42609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Popup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t out of the catcher’s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ve with the c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tch the gl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ke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op fly at the plate.wmv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23173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Positioning for Cal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287440" y="1484280"/>
            <a:ext cx="45691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Positioning for Call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2287440" y="1484280"/>
            <a:ext cx="456912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You make the Call _ Safe at Home.wmv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11007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65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lay at the Plate - positioning-timing.wmv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58558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lay at the Plate.wmv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2" dur="23466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7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working the plate - kaplan.wmv" descr=""/>
          <p:cNvPicPr/>
          <p:nvPr/>
        </p:nvPicPr>
        <p:blipFill>
          <a:blip r:embed="rId1"/>
          <a:stretch/>
        </p:blipFill>
        <p:spPr>
          <a:xfrm>
            <a:off x="0" y="360360"/>
            <a:ext cx="917424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093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Umpire Mechanics - Positioning and Timing 3.wmv" descr=""/>
          <p:cNvPicPr/>
          <p:nvPr/>
        </p:nvPicPr>
        <p:blipFill>
          <a:blip r:embed="rId1"/>
          <a:stretch/>
        </p:blipFill>
        <p:spPr>
          <a:xfrm>
            <a:off x="-30240" y="360360"/>
            <a:ext cx="917424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0447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Problem Area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 crowding the p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cher inside and/o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cher way out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ne’s gonna hurt”  p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Mask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ckey-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ing/Carrying the m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Indicato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olute neces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/Carr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ips for working the plat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yourself to the cat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pitches from EACH pitcher in the first inning during warm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 with the catcher during the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catcher to assist you with problem pit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me Ru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tcher to mound with a b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 the di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pitches are strikes---unless they convince you other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 the pitch on the knees, but stay away from the high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ncy during the game is cru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58360" y="4967280"/>
            <a:ext cx="827748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Questions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AO_1a"/>
          <p:cNvPicPr/>
          <p:nvPr/>
        </p:nvPicPr>
        <p:blipFill>
          <a:blip r:embed="rId1"/>
          <a:stretch/>
        </p:blipFill>
        <p:spPr>
          <a:xfrm>
            <a:off x="2708280" y="789120"/>
            <a:ext cx="3726000" cy="35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Box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box - balanced 2"/>
          <p:cNvPicPr/>
          <p:nvPr/>
        </p:nvPicPr>
        <p:blipFill>
          <a:blip r:embed="rId1"/>
          <a:stretch/>
        </p:blipFill>
        <p:spPr>
          <a:xfrm>
            <a:off x="2214720" y="1984320"/>
            <a:ext cx="4589280" cy="3576600"/>
          </a:xfrm>
          <a:prstGeom prst="rect">
            <a:avLst/>
          </a:prstGeom>
          <a:ln w="0">
            <a:noFill/>
          </a:ln>
        </p:spPr>
      </p:pic>
      <p:sp>
        <p:nvSpPr>
          <p:cNvPr id="45" name="Line 4"/>
          <p:cNvSpPr/>
          <p:nvPr/>
        </p:nvSpPr>
        <p:spPr>
          <a:xfrm>
            <a:off x="1593720" y="2963880"/>
            <a:ext cx="5915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378240" y="1577880"/>
            <a:ext cx="0" cy="4260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BOX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143000" y="1752480"/>
            <a:ext cx="22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i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791680" y="175248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189080" y="2390760"/>
            <a:ext cx="2193840" cy="3687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5721480" y="2379600"/>
            <a:ext cx="219384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Box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189080" y="2390760"/>
            <a:ext cx="2193840" cy="3687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721480" y="2379600"/>
            <a:ext cx="2193840" cy="3687840"/>
          </a:xfrm>
          <a:prstGeom prst="rect">
            <a:avLst/>
          </a:prstGeom>
          <a:ln w="0">
            <a:noFill/>
          </a:ln>
        </p:spPr>
      </p:pic>
      <p:sp>
        <p:nvSpPr>
          <p:cNvPr id="55" name="Line 5"/>
          <p:cNvSpPr/>
          <p:nvPr/>
        </p:nvSpPr>
        <p:spPr>
          <a:xfrm>
            <a:off x="2773440" y="2138400"/>
            <a:ext cx="0" cy="4173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7321680" y="2098800"/>
            <a:ext cx="0" cy="4173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121560" y="1655640"/>
            <a:ext cx="32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utside Foot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ox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1189080" y="2390760"/>
            <a:ext cx="2193840" cy="3687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721480" y="2379600"/>
            <a:ext cx="2193840" cy="3687840"/>
          </a:xfrm>
          <a:prstGeom prst="rect">
            <a:avLst/>
          </a:prstGeom>
          <a:ln w="0">
            <a:noFill/>
          </a:ln>
        </p:spPr>
      </p:pic>
      <p:sp>
        <p:nvSpPr>
          <p:cNvPr id="61" name="Line 5"/>
          <p:cNvSpPr/>
          <p:nvPr/>
        </p:nvSpPr>
        <p:spPr>
          <a:xfrm>
            <a:off x="2435400" y="2138400"/>
            <a:ext cx="0" cy="4173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>
            <a:off x="6967440" y="2098800"/>
            <a:ext cx="0" cy="4173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3451680" y="165564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ead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Scisso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Fred Osuna at Dell 4"/>
          <p:cNvPicPr/>
          <p:nvPr/>
        </p:nvPicPr>
        <p:blipFill>
          <a:blip r:embed="rId1"/>
          <a:stretch/>
        </p:blipFill>
        <p:spPr>
          <a:xfrm>
            <a:off x="1854360" y="1652760"/>
            <a:ext cx="5435280" cy="3552480"/>
          </a:xfrm>
          <a:prstGeom prst="rect">
            <a:avLst/>
          </a:prstGeom>
          <a:ln w="0">
            <a:noFill/>
          </a:ln>
        </p:spPr>
      </p:pic>
      <p:sp>
        <p:nvSpPr>
          <p:cNvPr id="66" name="Line 4"/>
          <p:cNvSpPr/>
          <p:nvPr/>
        </p:nvSpPr>
        <p:spPr>
          <a:xfrm>
            <a:off x="5339880" y="2222640"/>
            <a:ext cx="2401560" cy="2942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1238400" y="3305160"/>
            <a:ext cx="6622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 flipH="1">
            <a:off x="5898960" y="1576440"/>
            <a:ext cx="14040" cy="3774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The Scisso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475080" y="2241720"/>
            <a:ext cx="219384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3:42:41Z</dcterms:created>
  <dc:creator>Ken Williams</dc:creator>
  <dc:description/>
  <dc:language>en-US</dc:language>
  <cp:lastModifiedBy>Ken - Laptop</cp:lastModifiedBy>
  <dcterms:modified xsi:type="dcterms:W3CDTF">2012-12-28T17:29:07Z</dcterms:modified>
  <cp:revision>36</cp:revision>
  <dc:subject/>
  <dc:title>Working the Plate</dc:title>
</cp:coreProperties>
</file>